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3859-37A4-4A22-AC46-ACB55F1D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847-1ECA-458F-A050-F8E8D621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EE8-F1AA-4951-BD19-C7AA757A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ECF-E45B-4FA5-8E52-0345A05B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CC5C-EA51-42D4-B303-5C63ABC2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4D72-CD91-4A74-BDF5-228C874F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1CBC-E181-4520-8C6F-73A43824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1480-4900-4880-B693-6A08A5CF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6B81-9B29-49B3-AB31-1F32567A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96FF-A38A-4984-A462-D6917511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98F0-BC24-47EC-9F0F-6EFF0BCE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655-6542-46F7-A629-DE7F1BCD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304F-46D2-423F-8C84-6C49AB5C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8637-34AC-407F-9491-02F0414F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C009-3D25-4406-8575-CA9ED7A7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0DA8-F194-4BF7-A5AE-C0253F12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3B23-B238-4DBD-A798-7CADDE5A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41A-7C1E-4F03-AAA8-3A91A37F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50C-00C8-47F4-9220-714BE536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087-9BCD-4DD0-8F34-47387475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49E-A78A-4C3C-8575-A4978547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614-01B3-479E-B915-0E551786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902-3F04-40B0-A321-0FC42576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04A-C1F9-4A8D-848B-D70285AF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E735-ED9F-4825-8C27-F5D99187A2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02B7-9657-445B-ACBB-4CBB4CE3F3F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Тема: «Природные сообщества»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6 класс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Учитель химии и биологии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tt-RU" sz="3600" spc="-1" strike="noStrike">
                <a:solidFill>
                  <a:srgbClr val="eaeaea"/>
                </a:solidFill>
                <a:latin typeface="Verdana"/>
              </a:rPr>
              <a:t>кв.кат.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алеева Л.Р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5" descr="i-6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4" descr="a0c7360e064569d2eeacc3df9f3d2cfe"/>
          <p:cNvPicPr/>
          <p:nvPr/>
        </p:nvPicPr>
        <p:blipFill>
          <a:blip r:embed="rId1"/>
          <a:stretch/>
        </p:blipFill>
        <p:spPr>
          <a:xfrm>
            <a:off x="324000" y="174600"/>
            <a:ext cx="777528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5" descr="i-1058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5" descr="i-1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5" descr="i-9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7" descr="i-1527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5" descr="i-642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2050920" y="0"/>
            <a:ext cx="51390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Picture 5" descr="i-961"/>
          <p:cNvPicPr/>
          <p:nvPr/>
        </p:nvPicPr>
        <p:blipFill>
          <a:blip r:embed="rId1"/>
          <a:stretch/>
        </p:blipFill>
        <p:spPr>
          <a:xfrm>
            <a:off x="179280" y="0"/>
            <a:ext cx="91458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5" descr="i-828"/>
          <p:cNvPicPr/>
          <p:nvPr/>
        </p:nvPicPr>
        <p:blipFill>
          <a:blip r:embed="rId1"/>
          <a:stretch/>
        </p:blipFill>
        <p:spPr>
          <a:xfrm>
            <a:off x="0" y="0"/>
            <a:ext cx="936144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5" descr="i-1088"/>
          <p:cNvPicPr/>
          <p:nvPr/>
        </p:nvPicPr>
        <p:blipFill>
          <a:blip r:embed="rId1"/>
          <a:stretch/>
        </p:blipFill>
        <p:spPr>
          <a:xfrm>
            <a:off x="0" y="135000"/>
            <a:ext cx="939636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Picture 5" descr="i-821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Picture 5" descr="i-823"/>
          <p:cNvPicPr/>
          <p:nvPr/>
        </p:nvPicPr>
        <p:blipFill>
          <a:blip r:embed="rId1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коло названий сообществ выпишите номера характерных для них растений и животных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Хвойный лес –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Луг – 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Озеро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 – сосна, 2 – карась, 3 – черника, 4 – жаворонок, 5 – полевка (мышь), 6 – ряска, 7 – ландыш майский,  8 – дятел, 9 – пижма обыкновенная, 10 – зверобой,  11 – ель обыкновенная,  12 – выдра, 13–  лось, 14 – масленок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оло названий сообществ выпишите номера характерных для них растений и животных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Хвойный лес –1,3,7,8,11,13,14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Луг – 4,5,9,10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Озеро – 2,6,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Picture 5" descr="i-646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остройте схему пищевой цепи, включив в нее следующие организмы: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яц, лиса, травянистое растение, кузнечик, лягушка, волк, змея, ястреб, сова,  мышь, гусеница, кукушка, перепелка, дятел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пи пит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авянистое растение - гусеница – кукушк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авянистое растение –кузнечик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лягушка – змея – ястреб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Picture 5" descr="i-818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акие утверждения верны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А)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тепь является сообществ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Б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В сообществе все организмы связаны между соб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) Потребителем является берез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) Дождевой червь относится к производителя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) Сова – это разрушител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Е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Цепи питания в сообществах образуют сложные сети пита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Ж) Обычно цепи питания состоят из 8 – 10 звенье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7" descr="i-518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5" descr="i-1086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. 25 изучить, выполнить задание на с.  170, устно ответить на вопросы на стр. 171; подготовить сообщение о взаимодействии организмов в любом сообществе (по желанию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Образовательные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крыть понятие «Природные сообщества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пределить основные компоненты сообщества, сложность их взаимоотношений на примере цепей пита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меть составлять простые цепи пита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Развивающие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должить осваивать технологию индивидуализированного  обучени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звивать навыки установления причинно-следственных связей, работы с учебником, извлекая из них полезную информацию,  находить по его рисункам необходимые сведения для выполнения задани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Воспитательные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здать условия для индивидуализированной продуктивной работы каждого учени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тивировать учебную деятельность поэтапным достижением результат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Экологические факто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28760" y="2071800"/>
          <a:ext cx="8229600" cy="3355920"/>
        </p:xfrm>
        <a:graphic>
          <a:graphicData uri="http://schemas.openxmlformats.org/drawingml/2006/table">
            <a:tbl>
              <a:tblPr/>
              <a:tblGrid>
                <a:gridCol w="4329000"/>
                <a:gridCol w="3900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Экологические фактор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Факторы неживой природы (абиотические)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А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Б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В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Факторы живой природы (биотические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Деятельность человека (антропогенный фактор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5" descr="i-1068"/>
          <p:cNvPicPr/>
          <p:nvPr/>
        </p:nvPicPr>
        <p:blipFill>
          <a:blip r:embed="rId1"/>
          <a:stretch/>
        </p:blipFill>
        <p:spPr>
          <a:xfrm>
            <a:off x="-108000" y="-8100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16000" y="188640"/>
            <a:ext cx="780408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5" descr="i-974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i-1059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5" descr="i-14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2:01:08Z</dcterms:created>
  <dc:creator>Роберт</dc:creator>
  <dc:description/>
  <dc:language>en-US</dc:language>
  <cp:lastModifiedBy>Ray</cp:lastModifiedBy>
  <dcterms:modified xsi:type="dcterms:W3CDTF">2013-03-14T08:09:55Z</dcterms:modified>
  <cp:revision>7</cp:revision>
  <dc:subject/>
  <dc:title>Слайд 1</dc:title>
</cp:coreProperties>
</file>